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52.wmf" ContentType="image/x-wmf"/>
  <Override PartName="/ppt/media/image109.wmf" ContentType="image/x-wmf"/>
  <Override PartName="/ppt/media/image151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33034BE1-D38D-46CD-B51B-C2FF56FF5A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440" y="5889960"/>
            <a:ext cx="878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6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image" Target="../media/image161.wmf"/><Relationship Id="rId15" Type="http://schemas.openxmlformats.org/officeDocument/2006/relationships/image" Target="../media/image162.wmf"/><Relationship Id="rId16" Type="http://schemas.openxmlformats.org/officeDocument/2006/relationships/image" Target="../media/image163.wmf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image" Target="../media/image48.wmf"/><Relationship Id="rId20" Type="http://schemas.openxmlformats.org/officeDocument/2006/relationships/image" Target="../media/image49.wmf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wmf"/><Relationship Id="rId13" Type="http://schemas.openxmlformats.org/officeDocument/2006/relationships/image" Target="../media/image68.wmf"/><Relationship Id="rId14" Type="http://schemas.openxmlformats.org/officeDocument/2006/relationships/image" Target="../media/image69.wmf"/><Relationship Id="rId15" Type="http://schemas.openxmlformats.org/officeDocument/2006/relationships/image" Target="../media/image70.wmf"/><Relationship Id="rId16" Type="http://schemas.openxmlformats.org/officeDocument/2006/relationships/image" Target="../media/image71.wmf"/><Relationship Id="rId17" Type="http://schemas.openxmlformats.org/officeDocument/2006/relationships/image" Target="../media/image72.wmf"/><Relationship Id="rId1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image" Target="../media/image83.wmf"/><Relationship Id="rId12" Type="http://schemas.openxmlformats.org/officeDocument/2006/relationships/image" Target="../media/image84.wmf"/><Relationship Id="rId13" Type="http://schemas.openxmlformats.org/officeDocument/2006/relationships/image" Target="../media/image85.wmf"/><Relationship Id="rId14" Type="http://schemas.openxmlformats.org/officeDocument/2006/relationships/image" Target="../media/image86.wmf"/><Relationship Id="rId15" Type="http://schemas.openxmlformats.org/officeDocument/2006/relationships/image" Target="../media/image87.wmf"/><Relationship Id="rId16" Type="http://schemas.openxmlformats.org/officeDocument/2006/relationships/image" Target="../media/image88.wmf"/><Relationship Id="rId17" Type="http://schemas.openxmlformats.org/officeDocument/2006/relationships/image" Target="../media/image89.wmf"/><Relationship Id="rId18" Type="http://schemas.openxmlformats.org/officeDocument/2006/relationships/image" Target="../media/image90.wmf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113.wmf"/><Relationship Id="rId17" Type="http://schemas.openxmlformats.org/officeDocument/2006/relationships/image" Target="../media/image114.wmf"/><Relationship Id="rId1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image" Target="../media/image121.wmf"/><Relationship Id="rId8" Type="http://schemas.openxmlformats.org/officeDocument/2006/relationships/image" Target="../media/image122.wmf"/><Relationship Id="rId9" Type="http://schemas.openxmlformats.org/officeDocument/2006/relationships/image" Target="../media/image123.wmf"/><Relationship Id="rId10" Type="http://schemas.openxmlformats.org/officeDocument/2006/relationships/image" Target="../media/image124.wmf"/><Relationship Id="rId11" Type="http://schemas.openxmlformats.org/officeDocument/2006/relationships/image" Target="../media/image125.wmf"/><Relationship Id="rId12" Type="http://schemas.openxmlformats.org/officeDocument/2006/relationships/image" Target="../media/image126.wmf"/><Relationship Id="rId13" Type="http://schemas.openxmlformats.org/officeDocument/2006/relationships/image" Target="../media/image127.wmf"/><Relationship Id="rId14" Type="http://schemas.openxmlformats.org/officeDocument/2006/relationships/image" Target="../media/image128.wmf"/><Relationship Id="rId15" Type="http://schemas.openxmlformats.org/officeDocument/2006/relationships/image" Target="../media/image129.wmf"/><Relationship Id="rId16" Type="http://schemas.openxmlformats.org/officeDocument/2006/relationships/image" Target="../media/image130.wmf"/><Relationship Id="rId17" Type="http://schemas.openxmlformats.org/officeDocument/2006/relationships/image" Target="../media/image131.wmf"/><Relationship Id="rId1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image" Target="../media/image145.wmf"/><Relationship Id="rId15" Type="http://schemas.openxmlformats.org/officeDocument/2006/relationships/image" Target="../media/image146.wmf"/><Relationship Id="rId16" Type="http://schemas.openxmlformats.org/officeDocument/2006/relationships/image" Target="../media/image147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20" y="16081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320" y="22939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4320" y="32083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" y="41227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200" y="1641600"/>
            <a:ext cx="825480" cy="47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1960" y="2320920"/>
            <a:ext cx="627120" cy="79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2080" y="3209760"/>
            <a:ext cx="998280" cy="86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1000" y="4192560"/>
            <a:ext cx="91440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17720" y="968400"/>
            <a:ext cx="126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8480" y="1654200"/>
            <a:ext cx="1216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440" y="2416320"/>
            <a:ext cx="1140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2160" y="340668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080" y="4245120"/>
            <a:ext cx="98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320" y="4808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18960" y="4835520"/>
            <a:ext cx="642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41400" y="49309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417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88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41720" y="16081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8800" y="1654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308320" y="1603440"/>
            <a:ext cx="998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1720" y="2522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8800" y="26449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Pr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308320" y="2552760"/>
            <a:ext cx="652320" cy="6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1720" y="3284640"/>
            <a:ext cx="2044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98800" y="3483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308320" y="3317760"/>
            <a:ext cx="880920" cy="79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41720" y="4199040"/>
            <a:ext cx="20444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98800" y="43210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41720" y="4884840"/>
            <a:ext cx="20444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0" y="50832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9120" y="99864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7600" y="112068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9120" y="18367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7600" y="19591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99120" y="26748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7600" y="28735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2376360" y="4257720"/>
            <a:ext cx="871560" cy="56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309760" y="4924440"/>
            <a:ext cx="85572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356000" y="1033560"/>
            <a:ext cx="470160" cy="75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4356000" y="1908000"/>
            <a:ext cx="48600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4356000" y="2711520"/>
            <a:ext cx="55584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99120" y="3589200"/>
            <a:ext cx="181584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27600" y="37116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4356000" y="3679920"/>
            <a:ext cx="739800" cy="51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99120" y="4351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75320" y="4397400"/>
            <a:ext cx="149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 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99120" y="50371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7600" y="5083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7920" y="922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920" y="16081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6400" y="1730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4356000" y="43974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4356000" y="50832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6222960" y="112068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6222960" y="1774800"/>
            <a:ext cx="733320" cy="3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27920" y="24462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56400" y="24922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222960" y="2500200"/>
            <a:ext cx="54288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27920" y="3360600"/>
            <a:ext cx="181584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3406680"/>
            <a:ext cx="1876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6222960" y="3957480"/>
            <a:ext cx="54288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27920" y="45799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6400" y="4626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6222960" y="4594320"/>
            <a:ext cx="825480" cy="47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7920" y="5113440"/>
            <a:ext cx="18158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6400" y="5159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Switch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6222960" y="5151600"/>
            <a:ext cx="471600" cy="68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3"/>
          <a:stretch/>
        </p:blipFill>
        <p:spPr>
          <a:xfrm>
            <a:off x="6789600" y="3976560"/>
            <a:ext cx="54324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4"/>
          <a:stretch/>
        </p:blipFill>
        <p:spPr>
          <a:xfrm>
            <a:off x="2336760" y="1041480"/>
            <a:ext cx="825480" cy="48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5"/>
          <a:stretch/>
        </p:blipFill>
        <p:spPr>
          <a:xfrm>
            <a:off x="501480" y="1031760"/>
            <a:ext cx="825840" cy="47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6"/>
          <a:stretch/>
        </p:blipFill>
        <p:spPr>
          <a:xfrm>
            <a:off x="241200" y="10317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7"/>
          <a:stretch/>
        </p:blipFill>
        <p:spPr>
          <a:xfrm>
            <a:off x="7348680" y="3976560"/>
            <a:ext cx="54288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8"/>
          <a:stretch/>
        </p:blipFill>
        <p:spPr>
          <a:xfrm>
            <a:off x="4356000" y="4746600"/>
            <a:ext cx="540000" cy="2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12920" y="998640"/>
            <a:ext cx="2120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2920" y="20653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03280" y="1058760"/>
            <a:ext cx="376200" cy="8938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09760" y="2076480"/>
            <a:ext cx="668160" cy="841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398600" y="99360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98600" y="20606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2920" y="2979720"/>
            <a:ext cx="2120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98600" y="29750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60440" y="2979720"/>
            <a:ext cx="920520" cy="4190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12920" y="34369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70000" y="34322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85640" y="3454560"/>
            <a:ext cx="881280" cy="841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54628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46280" y="183672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46280" y="2903400"/>
            <a:ext cx="20448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46280" y="3665520"/>
            <a:ext cx="20448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46280" y="4427640"/>
            <a:ext cx="20448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46280" y="496080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03680" y="998640"/>
            <a:ext cx="15876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2637000" y="4502160"/>
            <a:ext cx="680760" cy="395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686480" y="1068480"/>
            <a:ext cx="863280" cy="569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2567160" y="5027760"/>
            <a:ext cx="974520" cy="730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2643120" y="1903320"/>
            <a:ext cx="515880" cy="8812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9"/>
          <a:stretch/>
        </p:blipFill>
        <p:spPr>
          <a:xfrm>
            <a:off x="2565360" y="3730680"/>
            <a:ext cx="825480" cy="5810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0"/>
          <a:stretch/>
        </p:blipFill>
        <p:spPr>
          <a:xfrm>
            <a:off x="2635200" y="1073160"/>
            <a:ext cx="69840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1"/>
          <a:stretch/>
        </p:blipFill>
        <p:spPr>
          <a:xfrm>
            <a:off x="2630520" y="2981160"/>
            <a:ext cx="708120" cy="567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3037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03720" y="183204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03720" y="2898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03720" y="366084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03720" y="4422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03720" y="495612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039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03680" y="1760400"/>
            <a:ext cx="18162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4673520" y="2097000"/>
            <a:ext cx="1636920" cy="6462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8276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880920" y="1058760"/>
            <a:ext cx="371520" cy="89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853920" y="1619280"/>
            <a:ext cx="893880" cy="371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03680" y="2827440"/>
            <a:ext cx="189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34040" y="28224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5"/>
          <a:stretch/>
        </p:blipFill>
        <p:spPr>
          <a:xfrm>
            <a:off x="4699080" y="2928960"/>
            <a:ext cx="1295280" cy="368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603680" y="33606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53160" y="33559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6"/>
          <a:stretch/>
        </p:blipFill>
        <p:spPr>
          <a:xfrm>
            <a:off x="4730760" y="3373560"/>
            <a:ext cx="7398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00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1836720"/>
            <a:ext cx="181620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3284640"/>
            <a:ext cx="18162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4503600"/>
            <a:ext cx="18162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5400" y="998640"/>
            <a:ext cx="19684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6480" y="998640"/>
            <a:ext cx="21970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6520" y="1150920"/>
            <a:ext cx="14349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08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9120" y="106992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9120" y="19080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9440" y="1854360"/>
            <a:ext cx="622440" cy="76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93680" y="335592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3680" y="4575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3338640"/>
            <a:ext cx="62244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20840" y="4556160"/>
            <a:ext cx="1012680" cy="1074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75120" y="10699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249640" y="1050840"/>
            <a:ext cx="1012680" cy="107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65400" y="22176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41720" y="2295360"/>
            <a:ext cx="1015920" cy="858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65400" y="320832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352600" y="3255840"/>
            <a:ext cx="793800" cy="463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75120" y="228924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-Attached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5120" y="3279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1280" y="1069920"/>
            <a:ext cx="1596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568760" y="1122480"/>
            <a:ext cx="781200" cy="768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4340160" y="1122480"/>
            <a:ext cx="781200" cy="768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46480" y="1989000"/>
            <a:ext cx="16639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9520" y="1984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4568760" y="2198520"/>
            <a:ext cx="7812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23000" y="198900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2240" y="20988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6480" y="3056040"/>
            <a:ext cx="16639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2560" y="31273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221000" y="3084480"/>
            <a:ext cx="702000" cy="6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379440" y="2722680"/>
            <a:ext cx="781200" cy="45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>
            <a:off x="6080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23000" y="2903400"/>
            <a:ext cx="16635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9080" y="297504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5870520" y="2927520"/>
            <a:ext cx="615960" cy="66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27720" y="38178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440" y="3889440"/>
            <a:ext cx="159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4575240" y="3887640"/>
            <a:ext cx="920520" cy="58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27720" y="4579920"/>
            <a:ext cx="1663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3440" y="46512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/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4575240" y="4608360"/>
            <a:ext cx="615960" cy="36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203880" y="3817800"/>
            <a:ext cx="16639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9960" y="3889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256440" y="3922560"/>
            <a:ext cx="619200" cy="665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65400" y="38178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7920" y="38131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2266920" y="3868560"/>
            <a:ext cx="673200" cy="455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08680" y="11462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9"/>
          <a:stretch/>
        </p:blipFill>
        <p:spPr>
          <a:xfrm>
            <a:off x="6415200" y="1266840"/>
            <a:ext cx="74592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5969160" y="2122560"/>
            <a:ext cx="104436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280" y="9986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3880" y="1079640"/>
            <a:ext cx="1285920" cy="853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22280" y="11462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280" y="206532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22280" y="221292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3880" y="2151000"/>
            <a:ext cx="1285920" cy="855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0280" y="313200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2280" y="32796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1720" y="3197160"/>
            <a:ext cx="916200" cy="885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0280" y="41990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2280" y="427032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76280" y="4307040"/>
            <a:ext cx="901800" cy="812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2600" y="998640"/>
            <a:ext cx="2349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4600" y="1069920"/>
            <a:ext cx="12920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746440" y="1316160"/>
            <a:ext cx="907920" cy="380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2600" y="2065320"/>
            <a:ext cx="234936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13660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2759040" y="2122560"/>
            <a:ext cx="7430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6600" y="9986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106992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0600" y="1135080"/>
            <a:ext cx="907920" cy="43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36600" y="176040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183204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17680" y="1820880"/>
            <a:ext cx="653760" cy="438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6600" y="23702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7080" y="267012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4880" y="2427120"/>
            <a:ext cx="97164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6600" y="3284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7080" y="35082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38120" y="3341520"/>
            <a:ext cx="977760" cy="76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6600" y="4199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7080" y="42703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1768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8160" y="11462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768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20606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446200" y="205272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17680" y="28274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8160" y="29750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59160" y="2941560"/>
            <a:ext cx="1049040" cy="635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17680" y="3741840"/>
            <a:ext cx="19684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8160" y="38894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2406600" y="3862440"/>
            <a:ext cx="1155600" cy="939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29912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9240" y="1146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9912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9240" y="20606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4397400" y="1106640"/>
            <a:ext cx="971640" cy="660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4435560" y="204948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2558880" y="4319640"/>
            <a:ext cx="1155960" cy="939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2459160" y="1112760"/>
            <a:ext cx="1049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477720" y="431316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280200" y="1913040"/>
            <a:ext cx="15876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3480" y="206064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480000" y="1969920"/>
            <a:ext cx="465480" cy="74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9120" y="2827440"/>
            <a:ext cx="27302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21360" y="289872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 Right and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4387680" y="2936880"/>
            <a:ext cx="825840" cy="479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299120" y="35132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9240" y="36608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4403880" y="3605040"/>
            <a:ext cx="958680" cy="52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299120" y="42750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9240" y="442260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4467240" y="4354560"/>
            <a:ext cx="971640" cy="84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7"/>
          <a:stretch/>
        </p:blipFill>
        <p:spPr>
          <a:xfrm>
            <a:off x="5378400" y="2936880"/>
            <a:ext cx="82548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280" y="9986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9120" y="12985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0280" y="2217600"/>
            <a:ext cx="20448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9120" y="25178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5040" y="2236680"/>
            <a:ext cx="12636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60280" y="343692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9120" y="38131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39840" y="3506760"/>
            <a:ext cx="1466640" cy="104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0280" y="46562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912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93840" y="4710240"/>
            <a:ext cx="1066680" cy="1060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7680" y="998640"/>
            <a:ext cx="20448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0200" y="122220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94000" y="1100160"/>
            <a:ext cx="1333440" cy="825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17680" y="1989000"/>
            <a:ext cx="2044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17680" y="290340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0200" y="3127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63840" y="2948040"/>
            <a:ext cx="584280" cy="939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17680" y="39704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7680" y="48848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70200" y="5032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2462040" y="49626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375080" y="998640"/>
            <a:ext cx="2121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4680" y="11844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505400" y="1030320"/>
            <a:ext cx="907920" cy="88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375080" y="198900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468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4530600" y="2062080"/>
            <a:ext cx="857520" cy="870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375080" y="305604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4680" y="32796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4441680" y="3108240"/>
            <a:ext cx="1033560" cy="898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375080" y="412272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4680" y="43466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527720" y="4184640"/>
            <a:ext cx="698400" cy="71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375080" y="496080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8800" y="998640"/>
            <a:ext cx="14349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08800" y="2141640"/>
            <a:ext cx="14349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2240" y="1031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6586560" y="1258920"/>
            <a:ext cx="1314360" cy="799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02240" y="2174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2457360" y="2021040"/>
            <a:ext cx="1013040" cy="822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7020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4640" y="40798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2540160" y="4052880"/>
            <a:ext cx="888840" cy="711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4457880" y="5070600"/>
            <a:ext cx="71100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5468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6843600" y="2408400"/>
            <a:ext cx="638280" cy="63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08800" y="3132000"/>
            <a:ext cx="14349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2240" y="31654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08800" y="4122720"/>
            <a:ext cx="14349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6"/>
          <a:stretch/>
        </p:blipFill>
        <p:spPr>
          <a:xfrm>
            <a:off x="6618240" y="4308480"/>
            <a:ext cx="1101600" cy="797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51480" y="41180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7"/>
          <a:stretch/>
        </p:blipFill>
        <p:spPr>
          <a:xfrm>
            <a:off x="6850080" y="3405240"/>
            <a:ext cx="638280" cy="635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282600" y="1023840"/>
            <a:ext cx="12762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6600" y="998640"/>
            <a:ext cx="21970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6320" y="99360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6600" y="2141640"/>
            <a:ext cx="21970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46320" y="2212920"/>
            <a:ext cx="1292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73000" y="3166920"/>
            <a:ext cx="1467000" cy="641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76440" y="23734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71520" y="21448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15800" y="3319560"/>
            <a:ext cx="1467000" cy="641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46280" y="998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1600" y="1755720"/>
            <a:ext cx="388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46280" y="2141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114444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857680" y="2274840"/>
            <a:ext cx="3174840" cy="177840"/>
            <a:chOff x="2857680" y="2274840"/>
            <a:chExt cx="3174840" cy="177840"/>
          </a:xfrm>
        </p:grpSpPr>
        <p:sp>
          <p:nvSpPr>
            <p:cNvPr id="315" name=""/>
            <p:cNvSpPr/>
            <p:nvPr/>
          </p:nvSpPr>
          <p:spPr>
            <a:xfrm flipV="1">
              <a:off x="4305240" y="2274840"/>
              <a:ext cx="127080" cy="1778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7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86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148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434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720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00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9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05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3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2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910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48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6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5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921040" y="144936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70280" y="2567160"/>
            <a:ext cx="3149640" cy="203040"/>
            <a:chOff x="2870280" y="2567160"/>
            <a:chExt cx="3149640" cy="203040"/>
          </a:xfrm>
        </p:grpSpPr>
        <p:sp>
          <p:nvSpPr>
            <p:cNvPr id="333" name=""/>
            <p:cNvSpPr/>
            <p:nvPr/>
          </p:nvSpPr>
          <p:spPr>
            <a:xfrm flipV="1">
              <a:off x="4317840" y="2567160"/>
              <a:ext cx="101880" cy="2030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0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98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74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60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46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3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1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7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46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75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036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22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8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541600" y="28224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6280" y="3284640"/>
            <a:ext cx="38736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41600" y="37368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33640" y="3430440"/>
            <a:ext cx="31752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46240" y="3659040"/>
            <a:ext cx="314964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46280" y="1407960"/>
            <a:ext cx="653760" cy="654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441360" y="140796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38120" y="1027080"/>
            <a:ext cx="67320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0280" y="998640"/>
            <a:ext cx="2502000" cy="135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2600" y="1041480"/>
            <a:ext cx="2192400" cy="122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398600" y="9936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280" y="2370240"/>
            <a:ext cx="25020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98600" y="23652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26880" y="2676600"/>
            <a:ext cx="2100240" cy="860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60280" y="3589200"/>
            <a:ext cx="25020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98600" y="358452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73120" y="3641760"/>
            <a:ext cx="1012680" cy="617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60280" y="4351320"/>
            <a:ext cx="2502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98600" y="4346640"/>
            <a:ext cx="1368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87280" y="4449600"/>
            <a:ext cx="515880" cy="677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6000" y="4449600"/>
            <a:ext cx="516240" cy="677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774880" y="998640"/>
            <a:ext cx="356868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79880" y="9936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86380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3701880" y="1082520"/>
            <a:ext cx="74952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774880" y="22939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03920" y="228924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2971800" y="2370240"/>
            <a:ext cx="1092240" cy="72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774880" y="32083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79880" y="3203640"/>
            <a:ext cx="1368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2978280" y="3290760"/>
            <a:ext cx="1079280" cy="711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774880" y="4122720"/>
            <a:ext cx="2730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41800" y="41180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2862360" y="4173480"/>
            <a:ext cx="1744560" cy="1155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451476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2"/>
          <a:stretch/>
        </p:blipFill>
        <p:spPr>
          <a:xfrm>
            <a:off x="4191120" y="2370240"/>
            <a:ext cx="1092240" cy="723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3"/>
          <a:stretch/>
        </p:blipFill>
        <p:spPr>
          <a:xfrm>
            <a:off x="1405080" y="4449600"/>
            <a:ext cx="515880" cy="677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356520" y="998640"/>
            <a:ext cx="128268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4"/>
          <a:stretch/>
        </p:blipFill>
        <p:spPr>
          <a:xfrm>
            <a:off x="6477120" y="1058760"/>
            <a:ext cx="939600" cy="743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5"/>
          <a:stretch/>
        </p:blipFill>
        <p:spPr>
          <a:xfrm>
            <a:off x="6477120" y="1897200"/>
            <a:ext cx="939600" cy="742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6"/>
          <a:stretch/>
        </p:blipFill>
        <p:spPr>
          <a:xfrm>
            <a:off x="6477120" y="2735280"/>
            <a:ext cx="939600" cy="74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351480" y="350820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>
            <a:off x="4044960" y="3290760"/>
            <a:ext cx="107964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3660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0320" y="998640"/>
            <a:ext cx="2577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0320" y="2293920"/>
            <a:ext cx="257796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25520" y="1109520"/>
            <a:ext cx="698400" cy="2318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562040" y="1185840"/>
            <a:ext cx="711360" cy="2165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3192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9860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344840" y="2384280"/>
            <a:ext cx="454320" cy="808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358308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82096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2827440" y="1092240"/>
            <a:ext cx="439560" cy="815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3589200" y="1092240"/>
            <a:ext cx="439920" cy="815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4275000" y="1092240"/>
            <a:ext cx="439920" cy="815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465280" y="198432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65280" y="327960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6600" y="3741840"/>
            <a:ext cx="1206360" cy="196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6360" y="51084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55920" y="3741840"/>
            <a:ext cx="12826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09680" y="5108400"/>
            <a:ext cx="180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1612800" y="3827520"/>
            <a:ext cx="1067040" cy="1301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51200" y="3741840"/>
            <a:ext cx="143496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36680" y="4956120"/>
            <a:ext cx="258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60880" y="998640"/>
            <a:ext cx="143532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56520" y="998640"/>
            <a:ext cx="151128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6810480" y="1171440"/>
            <a:ext cx="715680" cy="1140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5383080" y="1076400"/>
            <a:ext cx="816120" cy="1165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6880320" y="2612880"/>
            <a:ext cx="716040" cy="114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3"/>
          <a:stretch/>
        </p:blipFill>
        <p:spPr>
          <a:xfrm>
            <a:off x="5246640" y="2530440"/>
            <a:ext cx="80964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351480" y="3736800"/>
            <a:ext cx="1521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46720" y="3736800"/>
            <a:ext cx="258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4"/>
          <a:stretch/>
        </p:blipFill>
        <p:spPr>
          <a:xfrm>
            <a:off x="3287880" y="3971880"/>
            <a:ext cx="612720" cy="871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5"/>
          <a:stretch/>
        </p:blipFill>
        <p:spPr>
          <a:xfrm>
            <a:off x="911160" y="3778200"/>
            <a:ext cx="615960" cy="776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6"/>
          <a:stretch/>
        </p:blipFill>
        <p:spPr>
          <a:xfrm>
            <a:off x="378000" y="4311720"/>
            <a:ext cx="615600" cy="7761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7"/>
          <a:stretch/>
        </p:blipFill>
        <p:spPr>
          <a:xfrm>
            <a:off x="4800600" y="44197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6200" y="196920"/>
            <a:ext cx="74563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0280" y="998640"/>
            <a:ext cx="17398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17520" y="1001880"/>
            <a:ext cx="914400" cy="70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93680" y="1069920"/>
            <a:ext cx="835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0280" y="176040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42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65040" y="2001960"/>
            <a:ext cx="654120" cy="698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013120" y="998640"/>
            <a:ext cx="13586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41600" y="106992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046240" y="1017720"/>
            <a:ext cx="541440" cy="723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784520" y="1760400"/>
            <a:ext cx="158724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65280" y="18320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1857240" y="1782720"/>
            <a:ext cx="870120" cy="971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60280" y="2827440"/>
            <a:ext cx="17398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4200" y="2822400"/>
            <a:ext cx="152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384120" y="3059280"/>
            <a:ext cx="1530360" cy="704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013120" y="2827440"/>
            <a:ext cx="135864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41600" y="282240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2079720" y="3200400"/>
            <a:ext cx="880920" cy="561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60280" y="3817800"/>
            <a:ext cx="21211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336600" y="3821040"/>
            <a:ext cx="148572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627200" y="388944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0280" y="4732200"/>
            <a:ext cx="14353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65080" y="48038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369720" y="4749840"/>
            <a:ext cx="64296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384720" y="998640"/>
            <a:ext cx="18921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18120" y="993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3486240" y="1141560"/>
            <a:ext cx="825480" cy="73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384720" y="1989000"/>
            <a:ext cx="189216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18120" y="19843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494160" y="2963880"/>
            <a:ext cx="1101600" cy="754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3498840" y="2125800"/>
            <a:ext cx="1104840" cy="753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394000" y="3817800"/>
            <a:ext cx="1892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5120" y="3813120"/>
            <a:ext cx="121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89480" y="99864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13400" y="993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5416560" y="1004760"/>
            <a:ext cx="762120" cy="1003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3"/>
          <a:stretch/>
        </p:blipFill>
        <p:spPr>
          <a:xfrm>
            <a:off x="2529000" y="3849840"/>
            <a:ext cx="593640" cy="838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289480" y="206532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37080" y="2060640"/>
            <a:ext cx="129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4"/>
          <a:stretch/>
        </p:blipFill>
        <p:spPr>
          <a:xfrm>
            <a:off x="5359320" y="2127240"/>
            <a:ext cx="569880" cy="890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289480" y="3132000"/>
            <a:ext cx="15112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8960" y="31273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5"/>
          <a:stretch/>
        </p:blipFill>
        <p:spPr>
          <a:xfrm>
            <a:off x="5421240" y="3191040"/>
            <a:ext cx="752400" cy="745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08200" y="47322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41600" y="4803840"/>
            <a:ext cx="83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1774800" y="4794120"/>
            <a:ext cx="1187640" cy="5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1T00:32:32Z</dcterms:created>
  <dc:creator>Cisco Corporate ID Dept</dc:creator>
  <dc:description/>
  <dc:language>en-US</dc:language>
  <cp:lastModifiedBy>张磊杰</cp:lastModifiedBy>
  <cp:lastPrinted>1997-10-17T20:39:28Z</cp:lastPrinted>
  <dcterms:modified xsi:type="dcterms:W3CDTF">1999-06-28T04:22:47Z</dcterms:modified>
  <cp:revision>5</cp:revision>
  <dc:subject>Library of Network Diagram Icons</dc:subject>
  <dc:title>Cisco Icon Reference</dc:title>
</cp:coreProperties>
</file>